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8363-75C1-42D6-B04F-FE364061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B9E-634F-4880-8CA4-E9A1998B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CB8805-62AC-4CA9-BFBB-A425B569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0F77EF-729E-423B-A114-9E37CF27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13F998-2F95-4BF8-8F75-8A3D374E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EC6093-5AD8-4AE8-B51C-67A8B9FA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13D882-B01C-4AE4-9E0A-B4C89DF5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D16B97-F070-440C-A334-BD60FAE6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C88243-D6CC-4289-987D-72E5B353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EBCEFD-C2A3-4179-9B42-97D5BA40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1B0F73-969D-4C7D-84EB-CCA1030B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CF9-7197-43CC-9156-575DDBCB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42F-0982-4F5D-AAF1-3F8EC917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00088-26BA-4B05-8D26-36BBD9E3B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0ABE2-6A74-4545-9E7B-29174D08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5CFC7-38F9-4704-9088-A69E1175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D4C93-1CAC-4E14-A169-04BD05F4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73AAD-6D6B-4B03-A55E-59136FF05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649C0-CE34-4948-A052-0525BD76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F1229-8132-40B3-B6B2-99812E02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E72-6E61-4DD4-8618-2D5747CF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1021D-C6EA-4398-AE12-9160E0C2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209A3-04D6-461B-AD66-0012497A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002AE-4F06-420D-A648-7D036AA6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FE2C6-D27C-48DE-AE6F-72A67F88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3FACC-5389-4BA8-9731-43BD7CEF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88343-0811-494C-A4D6-3D0BA8FE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F41AD-EBD1-464D-956C-5660D5AF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7A642-E505-4A0D-92E9-342A60BA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5750F-C2B2-4B60-A39F-57ADEF60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A27CF-1C4A-4040-9C4E-436EA004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96F4-9994-4D6F-BBDE-060D682A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83A99-3162-4E5E-AD30-C947D83B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0D9A-4D4A-4B32-9B69-FEF7BE7C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A5269-6D4E-4C3A-BE55-31739B94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A7EFF-500F-4337-85C7-401D204A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E31EA-5761-4D9F-A14F-056F4258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776FF-E042-4A6C-AE39-4992EE03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5D2CE-B316-41EF-BA5B-52E0D654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5FD171-E938-4154-856B-8464E921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B8C934-4898-40FA-BC6D-3F50F019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E0054A-D204-4A41-85E3-E08CC5E4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9A5-D011-4E35-81CB-446711C4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0DB749-6D1E-446E-BF6F-3F448AD0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95B20-06CC-47E0-BDA0-215F590B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40415F-C1E3-4DD2-954E-12272647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E19EC-85EB-4DAD-A027-C5699170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1E06E8-4C73-4882-B238-0182FABD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372A7F-A815-4483-B404-B42AA6A6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B63C16-5FDE-4D07-9391-25FBA6B0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9D7A4D-7AB9-4762-B099-3BD148AE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D9004F-A586-45E4-BEF5-CEE4FD84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4CA03-673E-4277-A942-044AE337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F79-BA1B-419D-8E0E-E7AEE5D8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72172-F087-4AEC-9950-35C73302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817C3-1143-48AA-A71E-8EF15205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81A1A-E047-4B51-B836-85F6F34A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337D8-593C-47C7-83A5-D6F30E10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4E3A6-3BE7-43D3-A630-5648B82F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7FCE6-46F9-485D-9930-74628F31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14A0F-3F12-4BCD-845F-21B1C141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FFE6E-900A-482A-B719-EC99ABDE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8585C-6FD7-48A9-9024-13455A45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657E1-A6B8-4066-91CD-53575E94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A4FD-F590-4B1D-895B-3F21E008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C7F8F-AB3E-4A07-A328-94FE60B8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3C396-4347-4E38-8253-22904A11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8C23D-2B19-4796-A669-11E462E2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77646-CC17-4BEC-8368-ABD16D46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AE942-A683-4BE4-A05B-7B00139A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23C91-0509-4C60-89F1-F639D399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D5CE5-5174-4DDE-AFEB-937D26A7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5DA07-437C-4084-B9AF-4F98233D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14BE4-9FBE-4A52-B5AE-2B8ABB39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2FF3E-AD79-4B71-9013-5756E046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1D64-1DD2-422C-B238-57E5E7FA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E6546-492C-4ECD-8190-D2738CF0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F7141-21B3-4831-81C4-36A38D5C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7FF86-8A20-4E8F-824A-12881D51C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87E41-77B8-401F-AA95-0401A6AB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F3618-C076-4DEB-924E-69FAD4B1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08114-7EA9-4C20-942C-8E392A9B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D850B-E0DF-463E-82B6-0C6D261C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6D687-D288-45EC-9ABF-CB303976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474B6-3CB5-425B-A29E-AE277B8C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0C926-8492-4612-90C6-BC6531FE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534-7027-40CE-8563-94662F86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2E037-D0A4-40BE-958E-1CE069C1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7A2C4-D1F1-4ACB-9E39-43714D67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079E8-1301-4F20-BB8F-D6CEAF9E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0FF41-12A9-4097-B3C1-3ECB3631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F35FA-F76A-403F-8EF5-DACFA629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7D0873-45B5-4DAB-A8CB-429A40ABA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8EF68B-D2C6-4FB4-BDF6-5A6F6E4F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C08D04-DA9D-4E23-B15C-9286358D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63E3B5-9A33-4516-A4D5-DAA63218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2CE2B3-02D6-4AD8-A891-0F2B417C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4BF1-DA60-4F08-BFEA-6B01F85D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3E3B57-C087-4F13-A97F-87465CCD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7F5E2C-A35F-488B-9564-68982338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1B7FAE-24D2-4D7D-8CFA-FF34E10D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C418BB-2E65-4867-AFAB-B90093E3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A844AB-8E43-4BA0-ACCA-992C7B91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77E762-BF15-419A-8004-51E731D7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738529-18DA-4220-95DB-972A7305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CFB400-2747-4530-B8BE-1BA4429E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B5BC74-2741-40F3-961A-FA85E280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CD6DC9-335F-48DF-84A6-C38A2A1A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CD7D-C2E2-4A28-BAAC-C7327A2B13E0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7266-D278-4E3E-AC1F-A2BD0AE77A12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4D08-F8A2-4465-975C-0FA193F3294E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5C7A-A0B6-4A1A-9971-7ED77242CF6C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3929-32D0-42F8-8C24-3C3D567B5079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6B7C-4640-49B7-B34D-B01328B4E2D4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C817-9C78-44B6-9DCA-46381FC02278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0037-C01C-4D49-A9C8-C9E9D7724C21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B18B-A9A4-4549-9AA1-647D461F1019}" type="slidenum">
              <a:rPr b="0" lang="ru-RU" sz="1600" spc="-1" strike="noStrike">
                <a:solidFill>
                  <a:srgbClr val="dfe0d4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2"/>
          <a:stretch/>
        </p:blipFill>
        <p:spPr>
          <a:xfrm>
            <a:off x="536400" y="73080"/>
            <a:ext cx="8242560" cy="334800"/>
          </a:xfrm>
          <a:prstGeom prst="rect">
            <a:avLst/>
          </a:prstGeom>
          <a:ln w="0">
            <a:noFill/>
          </a:ln>
        </p:spPr>
      </p:pic>
      <p:pic>
        <p:nvPicPr>
          <p:cNvPr id="395" name="Object 3" descr=""/>
          <p:cNvPicPr/>
          <p:nvPr/>
        </p:nvPicPr>
        <p:blipFill>
          <a:blip r:embed="rId3"/>
          <a:stretch/>
        </p:blipFill>
        <p:spPr>
          <a:xfrm>
            <a:off x="395280" y="2349360"/>
            <a:ext cx="8310600" cy="1325880"/>
          </a:xfrm>
          <a:prstGeom prst="rect">
            <a:avLst/>
          </a:prstGeom>
          <a:ln w="0">
            <a:noFill/>
          </a:ln>
        </p:spPr>
      </p:pic>
      <p:pic>
        <p:nvPicPr>
          <p:cNvPr id="396" name="Object 3" descr=""/>
          <p:cNvPicPr/>
          <p:nvPr/>
        </p:nvPicPr>
        <p:blipFill>
          <a:blip r:embed="rId4"/>
          <a:stretch/>
        </p:blipFill>
        <p:spPr>
          <a:xfrm>
            <a:off x="417600" y="785880"/>
            <a:ext cx="8310600" cy="1469880"/>
          </a:xfrm>
          <a:prstGeom prst="rect">
            <a:avLst/>
          </a:prstGeom>
          <a:ln w="0">
            <a:noFill/>
          </a:ln>
        </p:spPr>
      </p:pic>
      <p:pic>
        <p:nvPicPr>
          <p:cNvPr id="397" name="Object 3" descr=""/>
          <p:cNvPicPr/>
          <p:nvPr/>
        </p:nvPicPr>
        <p:blipFill>
          <a:blip r:embed="rId5"/>
          <a:stretch/>
        </p:blipFill>
        <p:spPr>
          <a:xfrm>
            <a:off x="488880" y="5322960"/>
            <a:ext cx="8310600" cy="1396800"/>
          </a:xfrm>
          <a:prstGeom prst="rect">
            <a:avLst/>
          </a:prstGeom>
          <a:ln w="0">
            <a:noFill/>
          </a:ln>
        </p:spPr>
      </p:pic>
      <p:pic>
        <p:nvPicPr>
          <p:cNvPr id="398" name="Object 3" descr=""/>
          <p:cNvPicPr/>
          <p:nvPr/>
        </p:nvPicPr>
        <p:blipFill>
          <a:blip r:embed="rId6"/>
          <a:stretch/>
        </p:blipFill>
        <p:spPr>
          <a:xfrm>
            <a:off x="488880" y="4025880"/>
            <a:ext cx="8310600" cy="12542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4"/>
          <p:cNvSpPr/>
          <p:nvPr/>
        </p:nvSpPr>
        <p:spPr>
          <a:xfrm>
            <a:off x="468360" y="404640"/>
            <a:ext cx="8209080" cy="2764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ОДОСНАБ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539640" y="692280"/>
            <a:ext cx="822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 1. Расход электрической энергии на подъем во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539640" y="2205000"/>
            <a:ext cx="822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. 2. Расход электрической энергии на очистку вод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468360" y="3645000"/>
            <a:ext cx="8209080" cy="2764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ДООТВЕД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2"/>
          <p:cNvSpPr/>
          <p:nvPr/>
        </p:nvSpPr>
        <p:spPr>
          <a:xfrm>
            <a:off x="468360" y="5229360"/>
            <a:ext cx="822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2. Расход электрической энергии на очистку сто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468360" y="3933720"/>
            <a:ext cx="822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. 1. Расход электрической энергии на перекачку сто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30"/>
          <p:cNvSpPr/>
          <p:nvPr/>
        </p:nvSpPr>
        <p:spPr>
          <a:xfrm>
            <a:off x="1187280" y="184464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14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34"/>
          <p:cNvSpPr/>
          <p:nvPr/>
        </p:nvSpPr>
        <p:spPr>
          <a:xfrm>
            <a:off x="1763640" y="184464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13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35"/>
          <p:cNvSpPr/>
          <p:nvPr/>
        </p:nvSpPr>
        <p:spPr>
          <a:xfrm>
            <a:off x="2700360" y="184464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15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36"/>
          <p:cNvSpPr/>
          <p:nvPr/>
        </p:nvSpPr>
        <p:spPr>
          <a:xfrm>
            <a:off x="3276720" y="1844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11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37"/>
          <p:cNvSpPr/>
          <p:nvPr/>
        </p:nvSpPr>
        <p:spPr>
          <a:xfrm>
            <a:off x="4211640" y="184464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124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38"/>
          <p:cNvSpPr/>
          <p:nvPr/>
        </p:nvSpPr>
        <p:spPr>
          <a:xfrm>
            <a:off x="4788000" y="184464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1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39"/>
          <p:cNvSpPr/>
          <p:nvPr/>
        </p:nvSpPr>
        <p:spPr>
          <a:xfrm>
            <a:off x="5724360" y="184464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124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40"/>
          <p:cNvSpPr/>
          <p:nvPr/>
        </p:nvSpPr>
        <p:spPr>
          <a:xfrm>
            <a:off x="6300720" y="184464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130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Box 41"/>
          <p:cNvSpPr/>
          <p:nvPr/>
        </p:nvSpPr>
        <p:spPr>
          <a:xfrm>
            <a:off x="7812000" y="184464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127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Box 42"/>
          <p:cNvSpPr/>
          <p:nvPr/>
        </p:nvSpPr>
        <p:spPr>
          <a:xfrm>
            <a:off x="7236000" y="184464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124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Box 43"/>
          <p:cNvSpPr/>
          <p:nvPr/>
        </p:nvSpPr>
        <p:spPr>
          <a:xfrm>
            <a:off x="1116000" y="3213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26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Box 44"/>
          <p:cNvSpPr/>
          <p:nvPr/>
        </p:nvSpPr>
        <p:spPr>
          <a:xfrm>
            <a:off x="4788000" y="321300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29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Box 45"/>
          <p:cNvSpPr/>
          <p:nvPr/>
        </p:nvSpPr>
        <p:spPr>
          <a:xfrm>
            <a:off x="5724360" y="3213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242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Box 46"/>
          <p:cNvSpPr/>
          <p:nvPr/>
        </p:nvSpPr>
        <p:spPr>
          <a:xfrm>
            <a:off x="6300720" y="321300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28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Box 47"/>
          <p:cNvSpPr/>
          <p:nvPr/>
        </p:nvSpPr>
        <p:spPr>
          <a:xfrm>
            <a:off x="7236000" y="321300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242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Box 48"/>
          <p:cNvSpPr/>
          <p:nvPr/>
        </p:nvSpPr>
        <p:spPr>
          <a:xfrm>
            <a:off x="7812000" y="3213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27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49"/>
          <p:cNvSpPr/>
          <p:nvPr/>
        </p:nvSpPr>
        <p:spPr>
          <a:xfrm>
            <a:off x="2700360" y="3213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242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50"/>
          <p:cNvSpPr/>
          <p:nvPr/>
        </p:nvSpPr>
        <p:spPr>
          <a:xfrm>
            <a:off x="3276720" y="32130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25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51"/>
          <p:cNvSpPr/>
          <p:nvPr/>
        </p:nvSpPr>
        <p:spPr>
          <a:xfrm>
            <a:off x="4211640" y="3213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2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Box 52"/>
          <p:cNvSpPr/>
          <p:nvPr/>
        </p:nvSpPr>
        <p:spPr>
          <a:xfrm>
            <a:off x="1692360" y="321300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2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Box 53"/>
          <p:cNvSpPr/>
          <p:nvPr/>
        </p:nvSpPr>
        <p:spPr>
          <a:xfrm>
            <a:off x="1187280" y="4869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09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Box 55"/>
          <p:cNvSpPr/>
          <p:nvPr/>
        </p:nvSpPr>
        <p:spPr>
          <a:xfrm>
            <a:off x="2700360" y="4869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09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Box 56"/>
          <p:cNvSpPr/>
          <p:nvPr/>
        </p:nvSpPr>
        <p:spPr>
          <a:xfrm>
            <a:off x="3276720" y="486900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08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Box 57"/>
          <p:cNvSpPr/>
          <p:nvPr/>
        </p:nvSpPr>
        <p:spPr>
          <a:xfrm>
            <a:off x="4211640" y="4869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084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Box 59"/>
          <p:cNvSpPr/>
          <p:nvPr/>
        </p:nvSpPr>
        <p:spPr>
          <a:xfrm>
            <a:off x="4788000" y="486900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092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Box 60"/>
          <p:cNvSpPr/>
          <p:nvPr/>
        </p:nvSpPr>
        <p:spPr>
          <a:xfrm>
            <a:off x="5724360" y="4869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084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Box 61"/>
          <p:cNvSpPr/>
          <p:nvPr/>
        </p:nvSpPr>
        <p:spPr>
          <a:xfrm>
            <a:off x="6300720" y="4869000"/>
            <a:ext cx="574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110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Box 62"/>
          <p:cNvSpPr/>
          <p:nvPr/>
        </p:nvSpPr>
        <p:spPr>
          <a:xfrm>
            <a:off x="7236000" y="486900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084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Box 63"/>
          <p:cNvSpPr/>
          <p:nvPr/>
        </p:nvSpPr>
        <p:spPr>
          <a:xfrm>
            <a:off x="7812000" y="4869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090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Box 64"/>
          <p:cNvSpPr/>
          <p:nvPr/>
        </p:nvSpPr>
        <p:spPr>
          <a:xfrm>
            <a:off x="1763640" y="486900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070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Box 65"/>
          <p:cNvSpPr/>
          <p:nvPr/>
        </p:nvSpPr>
        <p:spPr>
          <a:xfrm>
            <a:off x="1258920" y="630864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392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Box 68"/>
          <p:cNvSpPr/>
          <p:nvPr/>
        </p:nvSpPr>
        <p:spPr>
          <a:xfrm>
            <a:off x="1835280" y="630864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422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Box 69"/>
          <p:cNvSpPr/>
          <p:nvPr/>
        </p:nvSpPr>
        <p:spPr>
          <a:xfrm>
            <a:off x="2771640" y="630864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392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Box 70"/>
          <p:cNvSpPr/>
          <p:nvPr/>
        </p:nvSpPr>
        <p:spPr>
          <a:xfrm>
            <a:off x="3348000" y="630864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57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Box 71"/>
          <p:cNvSpPr/>
          <p:nvPr/>
        </p:nvSpPr>
        <p:spPr>
          <a:xfrm>
            <a:off x="4284720" y="6308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420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72"/>
          <p:cNvSpPr/>
          <p:nvPr/>
        </p:nvSpPr>
        <p:spPr>
          <a:xfrm>
            <a:off x="4859280" y="630864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602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73"/>
          <p:cNvSpPr/>
          <p:nvPr/>
        </p:nvSpPr>
        <p:spPr>
          <a:xfrm>
            <a:off x="5796000" y="630864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420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Box 74"/>
          <p:cNvSpPr/>
          <p:nvPr/>
        </p:nvSpPr>
        <p:spPr>
          <a:xfrm>
            <a:off x="6372360" y="630864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62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Box 75"/>
          <p:cNvSpPr/>
          <p:nvPr/>
        </p:nvSpPr>
        <p:spPr>
          <a:xfrm>
            <a:off x="7236000" y="6308640"/>
            <a:ext cx="57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420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Box 76"/>
          <p:cNvSpPr/>
          <p:nvPr/>
        </p:nvSpPr>
        <p:spPr>
          <a:xfrm>
            <a:off x="7885080" y="6308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(0,600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7:32:59Z</dcterms:created>
  <dc:creator>uer</dc:creator>
  <dc:description/>
  <dc:language>en-US</dc:language>
  <cp:lastModifiedBy>Admin</cp:lastModifiedBy>
  <dcterms:modified xsi:type="dcterms:W3CDTF">2018-03-07T04:35:26Z</dcterms:modified>
  <cp:revision>201</cp:revision>
  <dc:subject/>
  <dc:title>Слайд 1</dc:title>
</cp:coreProperties>
</file>