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04D9-4A7B-4B3F-9AD2-9F61B009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DDC-A5C4-4FA3-876F-B5A1DA50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CFF8-A682-42F8-860B-5B5018B1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E271-5C06-462C-B432-CB4DEC51C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5683-5A78-46D2-8258-99D829B4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091B-7A76-4ADE-9A1B-5CBCB39E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365-5BEA-40A9-B879-2D53C033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BD8-0374-4751-B511-7499AB96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15E0-CA93-47F7-8003-634069B7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2623-4E9D-4881-BADF-E8AA67FD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6E4F-E3D8-4BE8-9878-899480A8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BD09-41E3-49F3-AEA1-B20B842F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e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727C-09D2-4EF0-96A3-CBAA83F219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по объемным показателям подачи воды в централизованную водопроводную сеть, расходу воды на технологические нужды,  реализации воды потребителям по МП «Горводоканал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ject 3" descr=""/>
          <p:cNvPicPr/>
          <p:nvPr/>
        </p:nvPicPr>
        <p:blipFill>
          <a:blip r:embed="rId1"/>
          <a:stretch/>
        </p:blipFill>
        <p:spPr>
          <a:xfrm>
            <a:off x="488880" y="1001880"/>
            <a:ext cx="4062600" cy="25495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539640" y="693720"/>
            <a:ext cx="8280360" cy="30708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ФАКТ 2016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716360" y="1916280"/>
            <a:ext cx="388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Object 11" descr=""/>
          <p:cNvPicPr/>
          <p:nvPr/>
        </p:nvPicPr>
        <p:blipFill>
          <a:blip r:embed="rId2"/>
          <a:stretch/>
        </p:blipFill>
        <p:spPr>
          <a:xfrm>
            <a:off x="4521240" y="1001880"/>
            <a:ext cx="4062240" cy="25495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468360" y="458136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4572000" y="1413000"/>
            <a:ext cx="395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00" spc="-1" strike="noStrike">
                <a:solidFill>
                  <a:srgbClr val="000000"/>
                </a:solidFill>
                <a:latin typeface="Arial"/>
              </a:rPr>
              <a:t>Подача воды в водопроводную сеть 2016 г. – 5146,63 тыс. м</a:t>
            </a:r>
            <a:r>
              <a:rPr b="1" i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539640" y="3573360"/>
            <a:ext cx="8209080" cy="307080"/>
          </a:xfrm>
          <a:prstGeom prst="rect">
            <a:avLst/>
          </a:prstGeom>
          <a:gradFill rotWithShape="0">
            <a:gsLst>
              <a:gs pos="0">
                <a:srgbClr val="00b0f0"/>
              </a:gs>
              <a:gs pos="100000">
                <a:srgbClr val="b8e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ФАКТ 2017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Object 3" descr=""/>
          <p:cNvPicPr/>
          <p:nvPr/>
        </p:nvPicPr>
        <p:blipFill>
          <a:blip r:embed="rId3"/>
          <a:stretch/>
        </p:blipFill>
        <p:spPr>
          <a:xfrm>
            <a:off x="488880" y="3882960"/>
            <a:ext cx="4062600" cy="2549520"/>
          </a:xfrm>
          <a:prstGeom prst="rect">
            <a:avLst/>
          </a:prstGeom>
          <a:ln w="0">
            <a:noFill/>
          </a:ln>
        </p:spPr>
      </p:pic>
      <p:pic>
        <p:nvPicPr>
          <p:cNvPr id="50" name="Object 11" descr=""/>
          <p:cNvPicPr/>
          <p:nvPr/>
        </p:nvPicPr>
        <p:blipFill>
          <a:blip r:embed="rId4"/>
          <a:stretch/>
        </p:blipFill>
        <p:spPr>
          <a:xfrm>
            <a:off x="4521240" y="3882960"/>
            <a:ext cx="40622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7T07:32:59Z</dcterms:created>
  <dc:creator>uer</dc:creator>
  <dc:description/>
  <dc:language>en-US</dc:language>
  <cp:lastModifiedBy>Admin</cp:lastModifiedBy>
  <dcterms:modified xsi:type="dcterms:W3CDTF">2018-02-07T09:06:30Z</dcterms:modified>
  <cp:revision>164</cp:revision>
  <dc:subject/>
  <dc:title>Слайд 1</dc:title>
</cp:coreProperties>
</file>